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DA8D-1AD2-4E62-A93E-5BFA05D5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8179-FEDE-4EAE-B7EB-D1A5C69D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AEEB-4482-46A7-BC0F-41CF490F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CBFE-E329-4375-806A-844B46BF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427B-BA31-42B2-B1C8-193CEC0D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53AD-1B11-44B5-8957-571FB08D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A84A-4EBC-439C-87AF-38B6ED88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0E62-D7CB-47B8-9F03-A9D746CE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FFA5-3D69-4284-97A9-A77D4AED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6D27-4B5D-46D2-A39A-D406C01A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5A87-9B24-434B-9E54-F799867D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4BB6-3C41-47D3-99C6-D25B5AA5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BC06-14B6-4AE4-9003-CBA0AE49463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tti di prestazione d’opera nella scu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.U.165/2001 art7 comma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rt.4 legge n.30/2003( Biag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LGS 276/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590040" y="138240"/>
            <a:ext cx="996192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l collaboratore, fin d’ora si impegna a non diffondere notizie o informazioni delle quali è venuto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conoscenza a seguito del progetto affidatogli. </a:t>
            </a:r>
            <a:r>
              <a:rPr b="0" i="1" lang="it-IT" sz="1600" spc="-1" strike="noStrike">
                <a:solidFill>
                  <a:srgbClr val="993300"/>
                </a:solidFill>
                <a:latin typeface="Times New Roman"/>
              </a:rPr>
              <a:t>Egli potrà accettare altri incarichi a condizione che …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 caso di malattia o infortunio (se collaboratrice maternità) si applicheranno le disposizioni dell’art. 6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del già richiamato decreto 276/200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l committente fornirà al collaboratore tutte le informazioni e le avvertenze utili per l’uso di strument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messa a disposizione del collaboratore, con particolare attenzione alle misure di sicurezza e di tutela de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alute nel rispetto delle norme di garanzia stabilite dall’art. 66 comma 4 del già citato 276/200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fermo restando che il presente contratto di risolve alla data di cui al punto 6 le parti potranno comun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cedere prima della scadenza del termine per giusta causa o per giustificato motivo, dando in quest’ult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caso un preavviso di almeno 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10 giorni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l collaboratore autorizza il committente al trattamento dei dati personali e alle comunicazioni a terzi de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dati stessi per ottemperare agli obblighi normativi connessi con il presente contrat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er quanto non previsto si richiamano le vigenti disposizioni norm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er eventuali controversie sarà competente il foro di 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to confermato e sottoscrit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ogo e data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COMMITTENT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COLLABOR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14480"/>
            <a:ext cx="929952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74d62"/>
                </a:solidFill>
                <a:latin typeface="Times New Roman"/>
                <a:ea typeface="MS Mincho"/>
              </a:rPr>
              <a:t>CONTRATTO DI COLLABORAZIONE COORDINATA E CONTINUATIVA (OCCASIONA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74d62"/>
                </a:solidFill>
                <a:latin typeface="Times New Roman"/>
                <a:ea typeface="MS Mincho"/>
              </a:rPr>
              <a:t>Con la presente scrittura privata, redatta in duplice copia, a valere a tutti gli effetti di leg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74d62"/>
                </a:solidFill>
                <a:latin typeface="Times New Roman"/>
                <a:ea typeface="MS Mincho"/>
              </a:rPr>
              <a:t>T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74d62"/>
                </a:solidFill>
                <a:latin typeface="Times New Roman"/>
                <a:ea typeface="MS Mincho"/>
              </a:rPr>
              <a:t>L’istituzione scolastica _________________ con sede legale in via ______ a ____________ cod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74d62"/>
                </a:solidFill>
                <a:latin typeface="Times New Roman"/>
                <a:ea typeface="MS Mincho"/>
              </a:rPr>
              <a:t> </a:t>
            </a:r>
            <a:r>
              <a:rPr b="0" lang="it-IT" sz="1800" spc="-1" strike="noStrike">
                <a:solidFill>
                  <a:srgbClr val="374d62"/>
                </a:solidFill>
                <a:latin typeface="Times New Roman"/>
                <a:ea typeface="MS Mincho"/>
              </a:rPr>
              <a:t>fiscale n.____________che sottoscrive nella persona del legale rappresentante dirigente scolastic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74d62"/>
                </a:solidFill>
                <a:latin typeface="Times New Roman"/>
                <a:ea typeface="MS Mincho"/>
              </a:rPr>
              <a:t>prof. _________________ nato a _______ il _________ codice fiscale n. ___________...di segu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74d62"/>
                </a:solidFill>
                <a:latin typeface="Times New Roman"/>
                <a:ea typeface="MS Mincho"/>
              </a:rPr>
              <a:t> </a:t>
            </a:r>
            <a:r>
              <a:rPr b="0" lang="it-IT" sz="1800" spc="-1" strike="noStrike">
                <a:solidFill>
                  <a:srgbClr val="374d62"/>
                </a:solidFill>
                <a:latin typeface="Times New Roman"/>
                <a:ea typeface="MS Mincho"/>
              </a:rPr>
              <a:t>denominato “Committente”,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74d62"/>
                </a:solidFill>
                <a:latin typeface="Times New Roman"/>
                <a:ea typeface="MS Mincho"/>
              </a:rPr>
              <a:t>/La sig./ra..Mario Rossi. di seguito denominato/a “Collaboratore”, nato/a a______ il 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74d62"/>
                </a:solidFill>
                <a:latin typeface="Times New Roman"/>
                <a:ea typeface="MS Mincho"/>
              </a:rPr>
              <a:t>__ e residente a _________in via __________. n...,codice fiscale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74d62"/>
                </a:solidFill>
                <a:latin typeface="Times New Roman"/>
                <a:ea typeface="MS Mincho"/>
              </a:rPr>
              <a:t>premes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 il committente svolge attività di __________________ ed intende, visto </a:t>
            </a:r>
            <a:r>
              <a:rPr b="0" lang="it-IT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l POF d’Istitut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guito della sua approvazione con delibera del Consiglio d’Istituto n. _____ del 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 prevede attività d’insegnamento relative </a:t>
            </a:r>
            <a:r>
              <a:rPr b="0" lang="it-IT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ll’ampliamento dell’offerta formativ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tenuto co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la delibera del consiglio di classe del______________-relativa a lezioni di approfondimento d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ia riguardo il novecento, rivolte agli allievi della classi quinte, avvalendosi della collabor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un </a:t>
            </a:r>
            <a:r>
              <a:rPr b="0" lang="it-IT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sperto in geopolitic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 atteso ch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993300"/>
                </a:solidFill>
                <a:latin typeface="Courier New"/>
                <a:ea typeface="Courier New"/>
              </a:rPr>
              <a:t>o</a:t>
            </a:r>
            <a:r>
              <a:rPr b="0" lang="it-IT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       </a:t>
            </a:r>
            <a:r>
              <a:rPr b="0" i="1" lang="it-IT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che i contenuti professionali richiesti per lo svolgimento dell’incarico eccedono le ordina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competenze dei dipend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9933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993300"/>
                </a:solidFill>
                <a:latin typeface="Times New Roman"/>
              </a:rPr>
              <a:t>che l’istituzione scolastica non è in grado di poter potare a compimento il progetto in parola c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9933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993300"/>
                </a:solidFill>
                <a:latin typeface="Times New Roman"/>
              </a:rPr>
              <a:t>e risorse professionali presenti al suo intern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 il signor Mario Rossi ha i requisiti necessari, è dotato di adeguata professionalità ed è dispos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accettare l’incarico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92160" y="0"/>
            <a:ext cx="9236160" cy="70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l committente conferisce al signor Mario Rossi (collaboratore) che accetta, </a:t>
            </a:r>
            <a:r>
              <a:rPr b="0" lang="it-IT" sz="2000" spc="-1" strike="noStrike">
                <a:solidFill>
                  <a:srgbClr val="993300"/>
                </a:solidFill>
                <a:latin typeface="Times New Roman"/>
              </a:rPr>
              <a:t>l’incarico di n.12 ore di d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lezione di approfondimento sul tema “il dopoguerra” </a:t>
            </a:r>
            <a:r>
              <a:rPr b="0" i="1" lang="it-IT" sz="2000" spc="-1" strike="noStrike">
                <a:solidFill>
                  <a:srgbClr val="993300"/>
                </a:solidFill>
                <a:latin typeface="Times New Roman"/>
              </a:rPr>
              <a:t>con orario concordato</a:t>
            </a:r>
            <a:r>
              <a:rPr b="0" lang="it-IT" sz="2000" spc="-1" strike="noStrike">
                <a:solidFill>
                  <a:srgbClr val="993300"/>
                </a:solidFill>
                <a:latin typeface="Times New Roman"/>
              </a:rPr>
              <a:t> -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l rapporto di lavoro è di </a:t>
            </a:r>
            <a:r>
              <a:rPr b="0" lang="it-IT" sz="2000" spc="-1" strike="noStrike">
                <a:solidFill>
                  <a:srgbClr val="993300"/>
                </a:solidFill>
                <a:latin typeface="Times New Roman"/>
              </a:rPr>
              <a:t>natura occasional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viene conferito ai sensi del decreto leg.vo 276/2003 con particolare riferimento all’art. 61 comma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3300"/>
                </a:solidFill>
                <a:latin typeface="Times New Roman"/>
              </a:rPr>
              <a:t>il collaboratore svolgerà la sua attività in piena autonomia, senza alcun vincolo di subordinazione, salvo il necessario coordinamento generale e programmatico con il Committen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;il collaboratore opererà con la diligenza richiesta dalla natura dell’incarico facendo uso dellapropria professionalità </a:t>
            </a:r>
            <a:r>
              <a:rPr b="0" i="1" lang="it-IT" sz="2000" spc="-1" strike="noStrike">
                <a:solidFill>
                  <a:srgbClr val="993300"/>
                </a:solidFill>
                <a:latin typeface="Times New Roman"/>
              </a:rPr>
              <a:t>che non subirà condizionamenti o limitazion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’incarico avrà inizio </a:t>
            </a:r>
            <a:r>
              <a:rPr b="0" lang="it-IT" sz="2000" spc="-1" strike="noStrike">
                <a:solidFill>
                  <a:srgbClr val="993300"/>
                </a:solidFill>
                <a:latin typeface="Times New Roman"/>
              </a:rPr>
              <a:t>il giorno 1dicembre ed avrà termine il giorno 15 dicembre 200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0" lang="it-IT" sz="2000" spc="-1" strike="noStrike">
                <a:solidFill>
                  <a:srgbClr val="993300"/>
                </a:solidFill>
                <a:latin typeface="Times New Roman"/>
              </a:rPr>
              <a:t>compenso è fissato in euro 360,00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pari a euro 30,00 orarie (al lordo delle ritenute previdenziali,assistenziali ed erariali) e sarà corrisposto entro quindici giorni dal termine della prestazion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aranno inoltre riconosciute le eventuali spese sostenute per trasferte, preventivame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oncordate o autorizz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l collaboratore, fin d’ora si impegna a non diffondere notizie o informazioni delle quali è venuto a conoscenza a seguito del progetto affidatogli</a:t>
            </a:r>
            <a:r>
              <a:rPr b="0" lang="it-IT" sz="2000" spc="-1" strike="noStrike">
                <a:solidFill>
                  <a:srgbClr val="9933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993300"/>
                </a:solidFill>
                <a:latin typeface="Times New Roman"/>
              </a:rPr>
              <a:t>Egli potrà accettare altri incarichi a condizione che …in caso di malattia o infortunio o maternità che impediscano lo svolgimento della prestazion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993300"/>
                </a:solidFill>
                <a:latin typeface="Times New Roman"/>
              </a:rPr>
              <a:t>la </a:t>
            </a:r>
            <a:r>
              <a:rPr b="0" i="1" lang="it-IT" sz="1800" spc="-1" strike="noStrike">
                <a:solidFill>
                  <a:srgbClr val="993300"/>
                </a:solidFill>
                <a:latin typeface="Times New Roman"/>
              </a:rPr>
              <a:t>scadenza contrattuale e lo svolgimento della prestazione saranno prorogare con modalità e tempi concordati tra le par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89080" y="0"/>
            <a:ext cx="885492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 committente fornirà al collaboratore tutte le informazioni e le avvertenze utili per l’uso di strumen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 a disposizione del collaboratore, con particolare attenzione alle misure di sicurezza e di tutela d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ute nel rispetto delle norme di garanzia stabilite dall’art. 66 comma 4 del già citato 276/200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rmo restando che il presente contratto di risolve alla data di cui al punto 5 le parti potranno comun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dere prima della scadenza del termine per giusta causa o per giustificato motivo, dando in quest’ult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o un 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preavviso di almeno </a:t>
            </a:r>
            <a:r>
              <a:rPr b="0" i="1" lang="en-US" sz="1800" spc="-1" strike="noStrike">
                <a:solidFill>
                  <a:srgbClr val="993300"/>
                </a:solidFill>
                <a:latin typeface="Times New Roman"/>
              </a:rPr>
              <a:t>1 gio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 collaboratore autorizza il committente al trattamento dei dati personali e alle comunicazioni a terz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i dati stessi per ottemperare agli obblighi normativi connessi con il presente contrat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 quanto non previsto si richiamano le vigenti disposizioni norm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 eventuali controversie sarà competente il foro di 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to confermato e sottoscrit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ogo e data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COMMITTEN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COLLABORA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 Co.Co. Co. nelle pubbliche amministrazioni(90mil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00"/>
                </a:solidFill>
                <a:latin typeface="Times New Roman"/>
              </a:rPr>
              <a:t>Autonomi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nello svolgimento della funzione(alta professionalità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00"/>
                </a:solidFill>
                <a:latin typeface="Times New Roman"/>
              </a:rPr>
              <a:t>Eccedere le ordinarie competenz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dei propri dipend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it-IT" sz="3200" spc="-1" strike="noStrike">
                <a:solidFill>
                  <a:srgbClr val="cc0000"/>
                </a:solidFill>
                <a:latin typeface="Times New Roman"/>
              </a:rPr>
              <a:t>carenza assoluta di determinate figur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profession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opri dipendenti :Previa </a:t>
            </a:r>
            <a:r>
              <a:rPr b="0" lang="it-IT" sz="3200" spc="-1" strike="noStrike">
                <a:solidFill>
                  <a:srgbClr val="cc0000"/>
                </a:solidFill>
                <a:latin typeface="Times New Roman"/>
              </a:rPr>
              <a:t>Autorizzazione da parte della P.A.( a parte il part-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00"/>
                </a:solidFill>
                <a:latin typeface="Times New Roman"/>
              </a:rPr>
              <a:t>Vecchio regime applicazione controve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 Co.Co. Co.nella scu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00"/>
                </a:solidFill>
                <a:latin typeface="Times New Roman"/>
              </a:rPr>
              <a:t>Tutte le caratteristiche e i vincoli previsti dalla Biagi e dal dlgs applicativo,di fatto sono già operanti e previsti nella normativa pregressa e operante nei contratti di collaborazione coordinata e continuativa nella scuol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00"/>
                </a:solidFill>
                <a:latin typeface="Times New Roman"/>
              </a:rPr>
              <a:t>incarico connesso al progetto - forma scritta- periodo-e regime fiscale e previdenzi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.CO.CO  a proget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GS276/03ART.1 inapplicabilità nella scu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86 dello stesso decreto co.co.co regolamentato  nei contratti pubbl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. min. del lavoro n.1 gennaio 2004 comunque validità art2222 e seguenti C.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GS 165/2001e D.I.n.44(capacità negoziale) prevede di potersi  avvalere di esperti non subordinati,prevedendo compenso durata  luogo e oggetto della prest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.CO.CO  a proget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aratteristiche tipiche dei contratti di prestazione della scuola previsti dai P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et. da progetto o programma di lavo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orma autonoma e libertà organizz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llaborazione di tipo perso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essun vincolo di subordin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ordinamento con il committ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&gt;30 giorni e &gt;5000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POLOGIE CO.CO.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1066680"/>
            <a:ext cx="205740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143000"/>
            <a:ext cx="19810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2666880"/>
            <a:ext cx="15238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:CO: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3962520"/>
            <a:ext cx="15238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5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324480" y="3962520"/>
            <a:ext cx="15242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5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486040" y="32004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20040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44956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857640" y="47242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5181480"/>
            <a:ext cx="17524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EF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S 17-1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5181480"/>
            <a:ext cx="19814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PEF 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514600" y="6094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45720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3352680"/>
            <a:ext cx="2590920" cy="9907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5000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30 gior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2680" y="43434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3886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8160" y="3886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4648320"/>
            <a:ext cx="14475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800600"/>
            <a:ext cx="15238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AS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533412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133720" y="5105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486400"/>
            <a:ext cx="380988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S 17.80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PEF Scagl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IL SE Richiesta dal lav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1080" y="1066680"/>
            <a:ext cx="222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i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 subordin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94240" y="1031760"/>
            <a:ext cx="201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 coordin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 continu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4120" y="2286000"/>
            <a:ext cx="20574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voro auton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aborazioni coordinate occasionali o continu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1828800"/>
            <a:ext cx="2819520" cy="1295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 Person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o o es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3962520"/>
            <a:ext cx="16765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o/in r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10080" y="3657600"/>
            <a:ext cx="22860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057040" y="312408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81480" y="31240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4724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257800"/>
            <a:ext cx="213372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4724280"/>
            <a:ext cx="160020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tazio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ced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bl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4648320"/>
            <a:ext cx="22096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47242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181480"/>
            <a:ext cx="244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ttu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85520" y="4572000"/>
            <a:ext cx="15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ra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uat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4648320"/>
            <a:ext cx="22096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03880" y="4724280"/>
            <a:ext cx="188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i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radua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91520" y="44956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5791320"/>
            <a:ext cx="22096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teggio in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12760" y="0"/>
            <a:ext cx="89312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74d62"/>
                </a:solidFill>
                <a:latin typeface="Times New Roman"/>
                <a:ea typeface="MS Mincho"/>
              </a:rPr>
              <a:t>CONTRATTO DI COLLABORAZIONE COORDINATA E CONTINUATIVA A PROGET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74d62"/>
                </a:solidFill>
                <a:latin typeface="Times New Roman"/>
                <a:ea typeface="MS Mincho"/>
              </a:rPr>
              <a:t>Con la presente scrittura privata, redatta in duplice copia, a valere a tutti gli effetti di leg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74d62"/>
                </a:solidFill>
                <a:latin typeface="Times New Roman"/>
                <a:ea typeface="MS Mincho"/>
              </a:rPr>
              <a:t>T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74d62"/>
                </a:solidFill>
                <a:latin typeface="Times New Roman"/>
                <a:ea typeface="MS Mincho"/>
              </a:rPr>
              <a:t>L’istituzione scolastica _________________ con sede legale in via ______ a 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74d62"/>
                </a:solidFill>
                <a:latin typeface="Times New Roman"/>
                <a:ea typeface="MS Mincho"/>
              </a:rPr>
              <a:t> </a:t>
            </a:r>
            <a:r>
              <a:rPr b="0" lang="it-IT" sz="1800" spc="-1" strike="noStrike">
                <a:solidFill>
                  <a:srgbClr val="374d62"/>
                </a:solidFill>
                <a:latin typeface="Times New Roman"/>
                <a:ea typeface="MS Mincho"/>
              </a:rPr>
              <a:t>codice fiscale n.____________che sottoscrive nella persona del legale rappresentante dirigen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74d62"/>
                </a:solidFill>
                <a:latin typeface="Times New Roman"/>
                <a:ea typeface="MS Mincho"/>
              </a:rPr>
              <a:t>scolastico prof. _________________ nato a _______ il _________ codice fiscale n.___________.di seguito denominato “Committente”,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74d62"/>
                </a:solidFill>
                <a:latin typeface="Times New Roman"/>
                <a:ea typeface="MS Mincho"/>
              </a:rPr>
              <a:t>Il/La sig./ra..Mario Rossi. di seguito denominato/a “Collaboratore”, nato/a a______ 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74d62"/>
                </a:solidFill>
                <a:latin typeface="Times New Roman"/>
                <a:ea typeface="MS Mincho"/>
              </a:rPr>
              <a:t>_ e residente a _________in via __________. n...,codice fiscale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74d62"/>
                </a:solidFill>
                <a:latin typeface="Times New Roman"/>
                <a:ea typeface="MS Mincho"/>
              </a:rPr>
              <a:t>premesso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 il committente svolge attività di __________________ ed intende, così come </a:t>
            </a:r>
            <a:r>
              <a:rPr b="0" lang="it-IT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evisto del POF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della relativa delibera del Consiglio d’Istituto n. _____ del ___________ realizzare un </a:t>
            </a:r>
            <a:r>
              <a:rPr b="0" lang="it-IT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ogetto,rivolto agli allievi del triennio dell’istituto, il cui obiettivo è il conseguimento della patente europea del computer (ECDL),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la scheda A allegata, che è parte integrante del presente contratto, illustra in dettaglio il contenuto del progetto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993300"/>
                </a:solidFill>
                <a:latin typeface="Courier New"/>
                <a:ea typeface="Courier New"/>
              </a:rPr>
              <a:t>o</a:t>
            </a:r>
            <a:r>
              <a:rPr b="0" lang="it-IT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       </a:t>
            </a:r>
            <a:r>
              <a:rPr b="0" i="1" lang="it-IT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che i contenuti professionali richiesti per lo svolgimento dell’incarico eccedono le ordinarie competenze dei dipend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993300"/>
                </a:solidFill>
                <a:latin typeface="Courier New"/>
                <a:ea typeface="Courier New"/>
              </a:rPr>
              <a:t>o</a:t>
            </a:r>
            <a:r>
              <a:rPr b="0" lang="it-IT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       </a:t>
            </a:r>
            <a:r>
              <a:rPr b="0" i="1" lang="it-IT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che l’istituzione scolastica non è in grado di poter potare a compimento il progetto in parola con le risorse professionali presenti al suo intern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 il signor Mario Rossi ha i requisiti necessari, è dotato di adeguata professionalità ed è disposto ad accettare l’incarico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6440" y="0"/>
            <a:ext cx="900756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tipula ch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l committente conferisce al signor Mario Rossi (collaboratore) che accett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’incarico di n. 240 ore di insegnamento </a:t>
            </a:r>
            <a:r>
              <a:rPr b="0" i="1" lang="it-IT" sz="1800" spc="-1" strike="noStrike">
                <a:solidFill>
                  <a:srgbClr val="993300"/>
                </a:solidFill>
                <a:latin typeface="Times New Roman"/>
              </a:rPr>
              <a:t>con orario concordat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- nell’ambi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el progetto di cui all’allegato A - nelle classi del triennio ai fini del raggiung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i una preparazione idonea intesa ad ottenere il conseguimento della pat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uropea del compu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l rapporto di lavoro è disciplinato dall’art. 4 della legge 30/2003 e dagli artico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a 61 a 69 del decreto legislativo 276/200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993300"/>
                </a:solidFill>
                <a:latin typeface="Times New Roman"/>
              </a:rPr>
              <a:t>il collaboratore svolgerà la sua attività in piena autonomia, senza alcun vincol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993300"/>
                </a:solidFill>
                <a:latin typeface="Times New Roman"/>
              </a:rPr>
              <a:t>di subordinazione, salvo il necessario coordinamento generale e programmatic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993300"/>
                </a:solidFill>
                <a:latin typeface="Times New Roman"/>
              </a:rPr>
              <a:t>con il Committent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e parti convengono di incontrarsi periodicamente, con cadenza almeno quindicinal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er verificare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it-IT" sz="1800" spc="-1" strike="noStrike">
                <a:solidFill>
                  <a:srgbClr val="993300"/>
                </a:solidFill>
                <a:latin typeface="Times New Roman"/>
              </a:rPr>
              <a:t>risultati raggiunti</a:t>
            </a:r>
            <a:r>
              <a:rPr b="0" lang="it-IT" sz="1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i="1" lang="it-IT" sz="1800" spc="-1" strike="noStrike">
                <a:solidFill>
                  <a:srgbClr val="993300"/>
                </a:solidFill>
                <a:latin typeface="Times New Roman"/>
              </a:rPr>
              <a:t>e la rispondenza del progetto agli obiettivi prefiss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l collaboratore opererà con la diligenza richiesta dalla natura dell’incarico facen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so della propria </a:t>
            </a:r>
            <a:r>
              <a:rPr b="0" lang="it-IT" sz="1800" spc="-1" strike="noStrike">
                <a:solidFill>
                  <a:srgbClr val="993300"/>
                </a:solidFill>
                <a:latin typeface="Times New Roman"/>
              </a:rPr>
              <a:t>professionalità </a:t>
            </a:r>
            <a:r>
              <a:rPr b="0" i="1" lang="it-IT" sz="1800" spc="-1" strike="noStrike">
                <a:solidFill>
                  <a:srgbClr val="993300"/>
                </a:solidFill>
                <a:latin typeface="Times New Roman"/>
              </a:rPr>
              <a:t>che non subirà condizionamenti o limitazioni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993300"/>
                </a:solidFill>
                <a:latin typeface="Times New Roman"/>
              </a:rPr>
              <a:t>l’incarico avrà inizio il giorno 15 novembre ed avrà termine il giorno31 maggio 200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l compenso è fissato </a:t>
            </a:r>
            <a:r>
              <a:rPr b="0" lang="it-IT" sz="1800" spc="-1" strike="noStrike">
                <a:solidFill>
                  <a:srgbClr val="993300"/>
                </a:solidFill>
                <a:latin typeface="Times New Roman"/>
              </a:rPr>
              <a:t>in euro 7.200,00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pari a euro 30,00 orarie (al lordo delle riten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revidenziali, assistenziali ed erariali) e sarà corrisposto in con cadenza mensil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fronte delle ore effettuate. Le parti si danno atto che la misura del compenso è st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tabilita secondo la previsione dell’art. 63 del d.leg.vo 276/2003 tenendo conto de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mpensi normalmente corrisposti per analoghe prestazioni di lavoro </a:t>
            </a:r>
            <a:r>
              <a:rPr b="0" lang="it-IT" sz="1800" spc="-1" strike="noStrike">
                <a:solidFill>
                  <a:srgbClr val="993300"/>
                </a:solidFill>
                <a:latin typeface="Times New Roman"/>
              </a:rPr>
              <a:t>autono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aranno inoltre riconosciute le eventuali spese sostenute per trasferte, preventivamen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993300"/>
                </a:solidFill>
                <a:latin typeface="Times New Roman"/>
              </a:rPr>
              <a:t>concordate o autorizz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15:48:13Z</dcterms:created>
  <dc:creator>Seravalli Bruno</dc:creator>
  <dc:description/>
  <dc:language>en-US</dc:language>
  <cp:lastModifiedBy>pavatti</cp:lastModifiedBy>
  <cp:lastPrinted>2004-04-19T07:50:58Z</cp:lastPrinted>
  <dcterms:modified xsi:type="dcterms:W3CDTF">2004-12-15T14:22:34Z</dcterms:modified>
  <cp:revision>9</cp:revision>
  <dc:subject/>
  <dc:title>Lavoro a progetto nella scuola</dc:title>
</cp:coreProperties>
</file>